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0.gif" ContentType="image/gif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CE6-FB00-406C-B801-4E7EEEE6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7B3-94B8-4A78-866A-2783880E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55A-38E2-4B04-8300-BDF08798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CA9-E81E-4379-A5B6-634CABE4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457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D5A-BEA0-4CA6-A90C-F66EBAFB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516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CA3-D10D-425C-97B4-6DCEE04F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B32-2181-49A9-9A36-AC6C5B8C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740-B846-4B1B-8D1F-9B8E58D7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457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1B3-57F8-4D8C-B3F4-3AF3B96F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852-70FB-44B7-BAC9-CB8B5919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FDE-D831-4105-BB1D-E75912B9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274-6174-4EA5-B07A-57A867DF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5845-1F9C-4751-8B49-6F8D9A434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228600" y="1676520"/>
            <a:ext cx="46483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3"/>
          <a:stretch/>
        </p:blipFill>
        <p:spPr>
          <a:xfrm>
            <a:off x="304920" y="1022400"/>
            <a:ext cx="53316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609480" y="874800"/>
            <a:ext cx="60984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Line 9"/>
          <p:cNvSpPr/>
          <p:nvPr/>
        </p:nvSpPr>
        <p:spPr>
          <a:xfrm>
            <a:off x="228600" y="1676520"/>
            <a:ext cx="46483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2895480" cy="1218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ahoma"/>
              </a:rPr>
              <a:t>第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20</a:t>
            </a:r>
            <a:r>
              <a:rPr b="0" lang="zh-CN" sz="4000" spc="-1" strike="noStrike">
                <a:solidFill>
                  <a:srgbClr val="009900"/>
                </a:solidFill>
                <a:latin typeface="Tahoma"/>
              </a:rPr>
              <a:t>章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240" y="1904760"/>
            <a:ext cx="44197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ahoma"/>
                <a:ea typeface="黑体"/>
              </a:rPr>
              <a:t>迭代器模式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819520" y="54687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刘    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weiliu_china@yahoo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聚合是一个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管理和组织数据对象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的数据结构。</a:t>
            </a:r>
            <a:endParaRPr b="1" lang="en-US" sz="22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聚合对象主要拥有两个职责：一是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存储内部数据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；二是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遍历内部数据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。 </a:t>
            </a:r>
            <a:endParaRPr b="1" lang="en-US" sz="22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存储数据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是聚合对象最基本的职责。</a:t>
            </a:r>
            <a:endParaRPr b="1" lang="en-US" sz="22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将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遍历聚合对象中数据的行为提取出来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，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封装到一个迭代器中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，通过专门的迭代器来遍历聚合对象的内部数据，这就是迭代器模式的本质。迭代器模式是“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单一职责原则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”的完美体现。</a:t>
            </a:r>
            <a:r>
              <a:rPr b="1" lang="zh-CN" sz="18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Tahoma"/>
              </a:rPr>
              <a:t>自定义迭代器</a:t>
            </a:r>
            <a:endParaRPr b="1" lang="en-US" sz="26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yIterator——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抽象迭代器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yCollection——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抽象聚合类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ewCollection——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具体聚合类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ewIterator——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具体迭代器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Tahoma"/>
              </a:rPr>
              <a:t>自定义迭代器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参考代码 </a:t>
            </a: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(Chapter 20 Iterator\SimpleIterator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3352680" y="3657600"/>
            <a:ext cx="2666520" cy="990360"/>
            <a:chOff x="3352680" y="3657600"/>
            <a:chExt cx="2666520" cy="990360"/>
          </a:xfrm>
        </p:grpSpPr>
        <p:pic>
          <p:nvPicPr>
            <p:cNvPr id="116" name="Picture 5" descr="gif005"/>
            <p:cNvPicPr/>
            <p:nvPr/>
          </p:nvPicPr>
          <p:blipFill>
            <a:blip r:embed="rId1"/>
            <a:stretch/>
          </p:blipFill>
          <p:spPr>
            <a:xfrm>
              <a:off x="3352680" y="3657600"/>
              <a:ext cx="49356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6"/>
            <p:cNvSpPr/>
            <p:nvPr/>
          </p:nvSpPr>
          <p:spPr>
            <a:xfrm>
              <a:off x="3797280" y="4088520"/>
              <a:ext cx="22219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华文行楷"/>
                  <a:ea typeface="华文行楷"/>
                </a:rPr>
                <a:t>演示</a:t>
              </a:r>
              <a:r>
                <a:rPr b="1" lang="en-US" sz="2400" spc="-1" strike="noStrike">
                  <a:solidFill>
                    <a:srgbClr val="009900"/>
                  </a:solidFill>
                  <a:latin typeface="Arial"/>
                  <a:ea typeface="华文行楷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Tahoma"/>
              </a:rPr>
              <a:t>迭代器模式常规实现代码：</a:t>
            </a:r>
            <a:endParaRPr b="1" lang="en-US" sz="26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228600"/>
          <a:ext cx="7848720" cy="640080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640080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class ConcreteIterator implements Itera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{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e ConcreteAggregate objects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ConcreteIterator(ConcreteAggregate objec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{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.objects=objects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void first(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{  ......  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void next(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{  ......  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boolean hasNext(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{  ......  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Object currentItem(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{  ......  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class ConcreteAggregate implements Aggre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{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Iterator createIterator(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{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 new ConcreteIterator(this)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在迭代器模式中应用了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工厂方法模式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，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聚合类充当工厂类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，而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迭代器充当产品类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，由于定义了抽象层，系统的扩展性很好，在客户端可以针对抽象聚合类和抽象迭代器进行编程。</a:t>
            </a:r>
            <a:endParaRPr b="1" lang="en-US" sz="22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由于很多编程语言的类库都已经实现了迭代器模式，因此在实际使用中我们很少自定义迭代器，只需要直接使用</a:t>
            </a:r>
            <a:r>
              <a:rPr b="1" lang="en-US" sz="2200" spc="-1" strike="noStrike">
                <a:solidFill>
                  <a:srgbClr val="333333"/>
                </a:solidFill>
                <a:latin typeface="Tahoma"/>
              </a:rPr>
              <a:t>Java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、</a:t>
            </a:r>
            <a:r>
              <a:rPr b="1" lang="en-US" sz="2200" spc="-1" strike="noStrike">
                <a:solidFill>
                  <a:srgbClr val="333333"/>
                </a:solidFill>
                <a:latin typeface="Tahoma"/>
              </a:rPr>
              <a:t>C#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等语言中已定义好的迭代器即可，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迭代器已经成为我们操作聚合对象的基本工具之一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1" lang="en-US" sz="2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迭代器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：电视机遥控器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电视机遥控器就是一个迭代器的实例，通过它可以实现对电视机频道集合的遍历操作，本实例我们将模拟电视机遥控器的实现。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迭代器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：电视机遥控器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28" name="Picture 14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86104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迭代器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：电视机遥控器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参考代码 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(Chapter 20 Iterator\sample01)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3325680" y="3762360"/>
            <a:ext cx="2160360" cy="812160"/>
            <a:chOff x="3325680" y="3762360"/>
            <a:chExt cx="2160360" cy="812160"/>
          </a:xfrm>
        </p:grpSpPr>
        <p:pic>
          <p:nvPicPr>
            <p:cNvPr id="132" name="Picture 6" descr="gif005"/>
            <p:cNvPicPr/>
            <p:nvPr/>
          </p:nvPicPr>
          <p:blipFill>
            <a:blip r:embed="rId1"/>
            <a:stretch/>
          </p:blipFill>
          <p:spPr>
            <a:xfrm>
              <a:off x="3325680" y="3762360"/>
              <a:ext cx="3999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7"/>
            <p:cNvSpPr/>
            <p:nvPr/>
          </p:nvSpPr>
          <p:spPr>
            <a:xfrm>
              <a:off x="3686040" y="4114800"/>
              <a:ext cx="1800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华文行楷"/>
                  <a:ea typeface="华文行楷"/>
                </a:rPr>
                <a:t>演示</a:t>
              </a:r>
              <a:r>
                <a:rPr b="1" lang="en-US" sz="2400" spc="-1" strike="noStrike">
                  <a:solidFill>
                    <a:srgbClr val="009900"/>
                  </a:solidFill>
                  <a:latin typeface="Arial"/>
                  <a:ea typeface="华文行楷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优缺点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ahoma"/>
              </a:rPr>
              <a:t>迭代器模式的优点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它支持以不同的方式遍历一个聚合对象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迭代器简化了聚合类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在同一个聚合上可以有多个遍历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在迭代器模式中，增加新的聚合类和迭代器类都很方便，无须修改原有代码，满足“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开闭原则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”的要求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优缺点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ahoma"/>
              </a:rPr>
              <a:t>迭代器模式的缺点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由于迭代器模式将存储数据和遍历数据的职责分离，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增加新的聚合类需要对应增加新的迭代器类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，类的个数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成对增加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，这在一定程度上增加了系统的复杂性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本章教学内容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迭代器模式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动机与定义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结构与分析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实例与解析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效果与应用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扩展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" name="Picture 17" descr="82553"/>
          <p:cNvPicPr/>
          <p:nvPr/>
        </p:nvPicPr>
        <p:blipFill>
          <a:blip r:embed="rId1"/>
          <a:stretch/>
        </p:blipFill>
        <p:spPr>
          <a:xfrm>
            <a:off x="6324480" y="1447920"/>
            <a:ext cx="2438640" cy="205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200822393817"/>
          <p:cNvPicPr/>
          <p:nvPr/>
        </p:nvPicPr>
        <p:blipFill>
          <a:blip r:embed="rId2"/>
          <a:stretch/>
        </p:blipFill>
        <p:spPr>
          <a:xfrm>
            <a:off x="4038480" y="2971800"/>
            <a:ext cx="2667240" cy="2246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PS2遥~1"/>
          <p:cNvPicPr/>
          <p:nvPr/>
        </p:nvPicPr>
        <p:blipFill>
          <a:blip r:embed="rId3"/>
          <a:stretch/>
        </p:blipFill>
        <p:spPr>
          <a:xfrm>
            <a:off x="5715000" y="4724280"/>
            <a:ext cx="33526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适用环境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在以下情况下可以使用迭代器模式：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访问一个聚合对象的内容而无须暴露它的内部表示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需要为聚合对象提供多种遍历方式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为遍历不同的聚合结构提供一个统一的接口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ahoma"/>
              </a:rPr>
              <a:t>模式应用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JDK 1.2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引入了新的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Java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聚合框架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ections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42" name="Picture 3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3880" y="2971800"/>
            <a:ext cx="5867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ahoma"/>
              </a:rPr>
              <a:t>模式应用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ollection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是所有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Java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聚合类的根接口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在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JDK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类库中，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ollection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的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iterator()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方法返回一个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java.util.Iterator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类型的对象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而其子接口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java.util.List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的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listIterator()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方法返回一个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java.util.ListIterator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类型的对象，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ListIterator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是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Iterator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的子类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它们构成了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Java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语言对迭代器模式的支持，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Java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语言的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java.util.Iterator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接口就是迭代器模式的应用。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ahoma"/>
              </a:rPr>
              <a:t>模式应用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Java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内置迭代器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参考代码 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(Chapter 20 Iterator\JavaIterator)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3325680" y="3610080"/>
            <a:ext cx="2160360" cy="812160"/>
            <a:chOff x="3325680" y="3610080"/>
            <a:chExt cx="2160360" cy="812160"/>
          </a:xfrm>
        </p:grpSpPr>
        <p:pic>
          <p:nvPicPr>
            <p:cNvPr id="148" name="Picture 5" descr="gif005"/>
            <p:cNvPicPr/>
            <p:nvPr/>
          </p:nvPicPr>
          <p:blipFill>
            <a:blip r:embed="rId1"/>
            <a:stretch/>
          </p:blipFill>
          <p:spPr>
            <a:xfrm>
              <a:off x="3325680" y="3610080"/>
              <a:ext cx="3999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6"/>
            <p:cNvSpPr/>
            <p:nvPr/>
          </p:nvSpPr>
          <p:spPr>
            <a:xfrm>
              <a:off x="3686040" y="3962520"/>
              <a:ext cx="1800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华文行楷"/>
                  <a:ea typeface="华文行楷"/>
                </a:rPr>
                <a:t>演示</a:t>
              </a:r>
              <a:r>
                <a:rPr b="1" lang="en-US" sz="2400" spc="-1" strike="noStrike">
                  <a:solidFill>
                    <a:srgbClr val="009900"/>
                  </a:solidFill>
                  <a:latin typeface="Arial"/>
                  <a:ea typeface="华文行楷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ahoma"/>
              </a:rPr>
              <a:t>模式扩展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Java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迭代器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在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JDK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中，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Iterator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接口具有如下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3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个基本方法：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(1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 next()</a:t>
            </a: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：通过反复调用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ext()</a:t>
            </a: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方法可以逐个访问聚合中的元素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(2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oolean hasNext()</a:t>
            </a: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hasNext()</a:t>
            </a: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方法用于判断聚合对象中是否还存在下一个元素，为了不抛出异常，必须在调用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ext()</a:t>
            </a: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之前先调用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hasNext()</a:t>
            </a: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。如果迭代对象仍然拥有可供访问的元素，那么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hasNext()</a:t>
            </a: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返回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rue</a:t>
            </a: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(3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oid remove()</a:t>
            </a: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：用于删除上次调用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ext()</a:t>
            </a: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时所返回的元素。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扩展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Java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迭代器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ahoma"/>
              </a:rPr>
              <a:t>Java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迭代器可以理解为它工作在聚合对象的各个元素之间，每调用一次</a:t>
            </a:r>
            <a:r>
              <a:rPr b="0" lang="en-US" sz="1800" spc="-1" strike="noStrike">
                <a:solidFill>
                  <a:srgbClr val="333333"/>
                </a:solidFill>
                <a:latin typeface="Tahoma"/>
              </a:rPr>
              <a:t>next()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方法，迭代器便越过下个元素，并且返回它刚越过的那个元素的地址引用。但是，它也有一些限制，如某些迭代器只能单向移动。在使用迭代器时，访问某个元素的唯一方法就是调用</a:t>
            </a:r>
            <a:r>
              <a:rPr b="0" lang="en-US" sz="1800" spc="-1" strike="noStrike">
                <a:solidFill>
                  <a:srgbClr val="333333"/>
                </a:solidFill>
                <a:latin typeface="Tahoma"/>
              </a:rPr>
              <a:t>next()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1752480" y="4299120"/>
            <a:ext cx="579132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ahoma"/>
              </a:rPr>
              <a:t>模式扩展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Java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迭代器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代码示例：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09480" y="3429000"/>
          <a:ext cx="8153640" cy="822240"/>
        </p:xfrm>
        <a:graphic>
          <a:graphicData uri="http://schemas.openxmlformats.org/drawingml/2006/table">
            <a:tbl>
              <a:tblPr/>
              <a:tblGrid>
                <a:gridCol w="81536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rator iterator = collection.iterator();   //collecti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已实例化的集合对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rator.next(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/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跳过第一个元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rator.remove();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//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删除第一个元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09480" y="4495680"/>
          <a:ext cx="8153640" cy="1067040"/>
        </p:xfrm>
        <a:graphic>
          <a:graphicData uri="http://schemas.openxmlformats.org/drawingml/2006/table">
            <a:tbl>
              <a:tblPr/>
              <a:tblGrid>
                <a:gridCol w="8153640"/>
              </a:tblGrid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rator.remove(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rator.next();  /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该语句不能去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rator.remove(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本章小结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迭代器模式提供一种方法来访问聚合对象，而不用暴露这个对象的内部表示，其别名为游标。迭代器模式是一种对象行为型模式。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迭代器模式包含四个角色：抽象迭代器定义了访问和遍历元素的接口；具体迭代器实现了抽象迭代器接口，完成对聚合对象的遍历；抽象聚合类用于存储对象，并定义创建相应迭代器对象的接口；具体聚合类实现了创建相应迭代器的接口。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将遍历聚合对象中数据的行为提取出来，封装到一个迭代器中，通过专门的迭代器来遍历聚合对象的内部数据，这就是迭代器模式的本质。迭代器模式是“单一职责原则”的完美体现。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本章小结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迭代器模式的主要优点在于它支持以不同的方式遍历一个聚合对象，还简化了聚合类，而且在同一个聚合上可以有多个遍历；其缺点在于增加新的聚合类需要对应增加新的迭代器类，类的个数成对增加，这在一定程度上增加了系统的复杂性。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迭代器模式适用情况包括：访问一个聚合对象的内容而无须暴露它的内部表示；需要为聚合对象提供多种遍历方式；为遍历不同的聚合结构提供一个统一的接口。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在</a:t>
            </a:r>
            <a:r>
              <a:rPr b="0" lang="en-US" sz="2200" spc="-1" strike="noStrike">
                <a:solidFill>
                  <a:srgbClr val="080808"/>
                </a:solidFill>
                <a:latin typeface="Tahoma"/>
              </a:rPr>
              <a:t>JDK</a:t>
            </a: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类库中，</a:t>
            </a:r>
            <a:r>
              <a:rPr b="0" lang="en-US" sz="2200" spc="-1" strike="noStrike">
                <a:solidFill>
                  <a:srgbClr val="080808"/>
                </a:solidFill>
                <a:latin typeface="Tahoma"/>
              </a:rPr>
              <a:t>Collection</a:t>
            </a: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的</a:t>
            </a:r>
            <a:r>
              <a:rPr b="0" lang="en-US" sz="2200" spc="-1" strike="noStrike">
                <a:solidFill>
                  <a:srgbClr val="080808"/>
                </a:solidFill>
                <a:latin typeface="Tahoma"/>
              </a:rPr>
              <a:t>iterator()</a:t>
            </a: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方法返回一个</a:t>
            </a:r>
            <a:r>
              <a:rPr b="0" lang="en-US" sz="2200" spc="-1" strike="noStrike">
                <a:solidFill>
                  <a:srgbClr val="080808"/>
                </a:solidFill>
                <a:latin typeface="Tahoma"/>
              </a:rPr>
              <a:t>Iterator</a:t>
            </a: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类型的对象，而其子接口</a:t>
            </a:r>
            <a:r>
              <a:rPr b="0" lang="en-US" sz="2200" spc="-1" strike="noStrike">
                <a:solidFill>
                  <a:srgbClr val="080808"/>
                </a:solidFill>
                <a:latin typeface="Tahoma"/>
              </a:rPr>
              <a:t>List</a:t>
            </a: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的</a:t>
            </a:r>
            <a:r>
              <a:rPr b="0" lang="en-US" sz="2200" spc="-1" strike="noStrike">
                <a:solidFill>
                  <a:srgbClr val="080808"/>
                </a:solidFill>
                <a:latin typeface="Tahoma"/>
              </a:rPr>
              <a:t>listIterator()</a:t>
            </a: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方法返回一个</a:t>
            </a:r>
            <a:r>
              <a:rPr b="0" lang="en-US" sz="2200" spc="-1" strike="noStrike">
                <a:solidFill>
                  <a:srgbClr val="080808"/>
                </a:solidFill>
                <a:latin typeface="Tahoma"/>
              </a:rPr>
              <a:t>ListIterator</a:t>
            </a: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类型的对象，</a:t>
            </a:r>
            <a:r>
              <a:rPr b="0" lang="en-US" sz="2200" spc="-1" strike="noStrike">
                <a:solidFill>
                  <a:srgbClr val="080808"/>
                </a:solidFill>
                <a:latin typeface="Tahoma"/>
              </a:rPr>
              <a:t>ListIterator</a:t>
            </a: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是</a:t>
            </a:r>
            <a:r>
              <a:rPr b="0" lang="en-US" sz="2200" spc="-1" strike="noStrike">
                <a:solidFill>
                  <a:srgbClr val="080808"/>
                </a:solidFill>
                <a:latin typeface="Tahoma"/>
              </a:rPr>
              <a:t>Iterator</a:t>
            </a: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的子类。它们构成了</a:t>
            </a:r>
            <a:r>
              <a:rPr b="0" lang="en-US" sz="2200" spc="-1" strike="noStrike">
                <a:solidFill>
                  <a:srgbClr val="080808"/>
                </a:solidFill>
                <a:latin typeface="Tahoma"/>
              </a:rPr>
              <a:t>Java</a:t>
            </a: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语言对迭代器模式的支持，</a:t>
            </a:r>
            <a:r>
              <a:rPr b="0" lang="en-US" sz="2200" spc="-1" strike="noStrike">
                <a:solidFill>
                  <a:srgbClr val="080808"/>
                </a:solidFill>
                <a:latin typeface="Tahoma"/>
              </a:rPr>
              <a:t>Java</a:t>
            </a: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语言的</a:t>
            </a:r>
            <a:r>
              <a:rPr b="0" lang="en-US" sz="2200" spc="-1" strike="noStrike">
                <a:solidFill>
                  <a:srgbClr val="080808"/>
                </a:solidFill>
                <a:latin typeface="Tahoma"/>
              </a:rPr>
              <a:t>Iterator</a:t>
            </a: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接口就是迭代器模式的应用。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MS UI Gothic"/>
                <a:ea typeface="MS UI Gothic"/>
              </a:rPr>
              <a:t>END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1981080" y="2852640"/>
            <a:ext cx="533412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动机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一个聚合对象，如一个列表</a:t>
            </a:r>
            <a:r>
              <a:rPr b="1" lang="en-US" sz="2200" spc="-1" strike="noStrike">
                <a:solidFill>
                  <a:srgbClr val="333333"/>
                </a:solidFill>
                <a:latin typeface="Tahoma"/>
              </a:rPr>
              <a:t>(List)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或者一个集合</a:t>
            </a:r>
            <a:r>
              <a:rPr b="1" lang="en-US" sz="2200" spc="-1" strike="noStrike">
                <a:solidFill>
                  <a:srgbClr val="333333"/>
                </a:solidFill>
                <a:latin typeface="Tahoma"/>
              </a:rPr>
              <a:t>(Set)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，应该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提供一种方法来让别人可以访问它的元素，而又不需要暴露它的内部结构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1" lang="en-US" sz="22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针对不同的需要，可能还要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以不同的方式遍历整个聚合对象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，但是我们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并不希望在聚合对象的抽象层接口中充斥着各种不同遍历的操作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1" lang="en-US" sz="22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怎样遍历一个聚合对象，又不需要了解聚合对象的内部结构，还能够提供多种不同的遍历方式，这就是迭代器模式所要解决的问题。</a:t>
            </a:r>
            <a:endParaRPr b="1" lang="en-US" sz="2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Tahoma"/>
              </a:rPr>
              <a:t>模式动机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907920" y="2362320"/>
            <a:ext cx="747396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ahoma"/>
              </a:rPr>
              <a:t>模式动机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在迭代器模式中，提供一个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外部的迭代器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来对聚合对象进行访问和遍历，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迭代器定义了一个访问该聚合元素的接口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并且可以跟踪当前遍历的元素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了解哪些元素已经遍历过而哪些没有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有了迭代器模式，我们会发现对一个复杂的聚合对象的操作会变得如此简单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定义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迭代器模式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(Iterator Pattern)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：提供一种方法来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访问聚合对象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而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不用暴露这个对象的内部表示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其别名为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游标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(Cursor)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迭代器模式是一种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对象行为型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定义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terator Pattern: 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Provide a way to access the elements of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an aggregate object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 sequentially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without exposing its underlying representation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Frequency of use: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high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02" name="Picture 12" descr="use_high"/>
          <p:cNvPicPr/>
          <p:nvPr/>
        </p:nvPicPr>
        <p:blipFill>
          <a:blip r:embed="rId1"/>
          <a:stretch/>
        </p:blipFill>
        <p:spPr>
          <a:xfrm>
            <a:off x="4952880" y="3886200"/>
            <a:ext cx="144792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结构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0195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迭代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结构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迭代器模式包含如下角色：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terator: 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抽象迭代器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oncreteIterator: 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具体迭代器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ggregate: 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抽象聚合类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oncreteAggregate: 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具体聚合类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伟</cp:lastModifiedBy>
  <dcterms:modified xsi:type="dcterms:W3CDTF">2011-10-22T10:48:26Z</dcterms:modified>
  <cp:revision>15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